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9FF-4B64-4AD3-B668-B5473FD0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09C-40AC-43FC-9303-1886091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4BF-52EE-4DC4-AE30-2239B29A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4F4-0406-4658-A22C-2A918B81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9540-CC61-423E-95A2-11B7C4B4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66CC-AD74-449C-A400-F175379E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3463-168A-4804-9534-216B8AD7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545-BBD7-4A2C-8044-3387C207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9DCF-54F2-48A5-980E-786952B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EA3D-3DE5-4FFD-A548-7CB440DC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7D2-F62A-4C92-A493-5A53E910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C25-39A5-447E-B8B9-C5539550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96B7-E79B-406A-A770-E56E29E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52C2-3076-462C-8582-DC76BB5A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E357-ECB3-4403-B4EF-E0311B5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7D71-D4C9-4483-A25F-99B48B17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D2DD-5890-45D6-A9EE-A9CDA35C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395-0C40-48ED-B31B-408B550A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F9E-A67E-4E28-9567-FA3E170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026-9CEC-4C39-9C8A-C13BC46D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D11-1F7D-4EC6-AE2C-E584ED1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00C-9381-428A-ABB6-1F7AAFD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CA8-8466-452C-99AC-A80E152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A44-70AB-4573-A192-48F19D2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6CD1-D0C8-4211-9703-8D181E7382A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9A6B-2559-470B-B03B-5097BDEF3AE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tllacu.wikispaces.com/Forbe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2852640"/>
            <a:ext cx="784692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Leaders Transforming Learning and Learners (LTLL)</a:t>
            </a:r>
            <a:endParaRPr b="0" lang="en-US" sz="5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Where are we up to?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Revisiting the Action Plan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08160" y="281160"/>
            <a:ext cx="26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taff Meet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erm 2 Week 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ere are we up to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ANK YOU for completing the Teacher Survey! A lot of valuable information was collected which will help us build our knowledge and skills in our LTLL focus areas; Teacher as Leader and Educative Leadership (Leadership for professional learning).</a:t>
            </a:r>
            <a:r>
              <a:rPr b="0" lang="en-US" sz="2800" spc="-1" strike="noStrike">
                <a:solidFill>
                  <a:srgbClr val="ffcc00"/>
                </a:solidFill>
                <a:latin typeface="Abadi MT Condensed Light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LTLL Wiki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heck it out!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http://ltllacu.wikispaces.com/Forb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the upcoming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eeks look like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6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Workshop 1: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IWB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xplore options and timetable workshops for Term 3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ntense classroom preparation for Learning Journeys and 3 Way Interview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8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Stage Meeting: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Overviews, targets for Term 3, reviewing the Literacy and Numeracy Plan (Focus 6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mplementation of 3 Way Reporting. Parent and student survey of the process at the end of the interview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1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view data collected from both parent and student surveys regarding the 3 Way Reporting proces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bserving ou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lleagues in ‘action’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Appreciating and learning from one ano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This can occur throughout the year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Prue H can assist by releasing teachers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Jacqui can assist on </a:t>
            </a:r>
            <a:r>
              <a:rPr b="0" lang="en-US" sz="2500" spc="-1" strike="noStrike" u="sng">
                <a:solidFill>
                  <a:srgbClr val="ffcc00"/>
                </a:solidFill>
                <a:uFillTx/>
                <a:latin typeface="Comic Sans MS"/>
              </a:rPr>
              <a:t>Tuesdays</a:t>
            </a: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 by releasing teachers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It is up to the individual teacher to organise a suitable day and time with their colleague/s to visit their classroom and observe them regarding the areas of interest, e.g. use of technology, spelling, group work, etc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Teachers must then organise their release with Prue H and/or Jacqu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orkshop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Will begin TODA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fter looking at the survey results, many people would like PD in the area of IT, especially IWB training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Workshops will occur each term on the main areas of interest noted in the teacher survey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eachers will be approached by me to facilitate Workshop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orkshop 1: IWB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A collaborative approach utilising the knowledge and expertise of our colleagues.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is is our chance to have some hands-on learning with the IWB and associated softwar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ur IWB gurus (Michael, Trudy and Carina) will be available to help us and teach us a few tricks of the trade!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Have fun and learn lots!! </a:t>
            </a:r>
            <a:r>
              <a:rPr b="0" i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28:23Z</dcterms:created>
  <dc:creator>jacquilyn.dwyer</dc:creator>
  <dc:description/>
  <dc:language>en-US</dc:language>
  <cp:lastModifiedBy>jacquilyn.dwyer</cp:lastModifiedBy>
  <dcterms:modified xsi:type="dcterms:W3CDTF">2011-06-01T06:04:15Z</dcterms:modified>
  <cp:revision>5</cp:revision>
  <dc:subject/>
  <dc:title>Leaders Transforming Learning and Learners (LTLL)</dc:title>
</cp:coreProperties>
</file>